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682-3FC4-4BA5-AEAD-0DDEF7AD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A9F-E911-4C18-BFC8-08340E89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491-E05E-4C47-83E9-B8D8D14E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019-94DA-4B40-BC17-36E274F2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06EF-138D-4382-A4BA-831539F0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1BE4-9415-46C3-A0EC-0994B1B2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E59-6F5D-47DC-89BF-59480729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333A-A1F2-404B-8F07-5C3DCA3F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D60-4B47-4125-8120-DFDD7982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4190-A456-4769-8AE9-FFF5365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AD1C-186D-4A2B-B437-F898C31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CE8-12C6-4C07-987F-5B240A31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1AC5-F00E-4486-BB89-4A56645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AD2F-CC74-4753-BC14-BA79627A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9075-0E90-41EC-81D2-82FCC209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D78C-3B3E-444D-B6F7-4F8865AF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7EB1-E66D-4ABB-8607-A2BE0895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108-9BDF-4F9D-8177-6013E85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FFD-EB06-4B49-ADF5-4136C186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99C-EE72-463F-A8DC-596F85A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C54-CB89-4814-B264-B3AE784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E0F-99AE-45FC-BB22-9A5F31A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43F-2E8B-4542-8ED4-3394EEE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06F-4807-49F4-A056-6712BB2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8E90-EC83-494A-A0F9-13FFD44DA3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7328-7869-49DA-96AB-C1F722953382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The Power of Duplication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12 Month Example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9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512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1023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10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1024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2047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11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2048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4095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12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4096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How many people does that leave you on your team?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dc78"/>
                </a:solidFill>
                <a:latin typeface="Arial"/>
              </a:rPr>
              <a:t>8192</a:t>
            </a:r>
            <a:endParaRPr b="0" lang="en-US" sz="8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at’s right, 8192 reps on your team….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Regional Mgr. Month 1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1 person on your team to start the month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2 new reps join your team.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At the end of the month, you have 3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2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e 2 new reps from last month should each bring on 2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4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7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3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8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15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4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16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31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5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32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63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6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64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127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7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128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255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Month 8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256 new rep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511 tota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2:36:35Z</dcterms:created>
  <dc:creator>Associate</dc:creator>
  <dc:description/>
  <dc:language>en-US</dc:language>
  <cp:lastModifiedBy>Glenn</cp:lastModifiedBy>
  <dcterms:modified xsi:type="dcterms:W3CDTF">2009-06-13T13:52:29Z</dcterms:modified>
  <cp:revision>3</cp:revision>
  <dc:subject/>
  <dc:title>The Power </dc:title>
</cp:coreProperties>
</file>